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C71-6C96-4FB9-A293-2771A36E8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2800-D30F-415A-9B49-420B1A00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6B3038-4F2B-432A-8EA4-D5DD0C604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A75AE-0659-4518-BFB3-88BA2E0B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4C21D3-09FF-4898-B693-3C2E92DAA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EABFF2-7FED-41DF-AC78-C30DEE43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FE5B8B-3C2A-47BB-AB8C-7C9C3DA4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FE9B6E-41C4-4882-A7EF-242C772CC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5F4D60-2480-44EA-8DDF-084C52383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F80D59-0AF6-4AB0-8A8F-FB45E070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77197C-37B2-4DCE-A67A-DABC17F2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D96D-0947-4AEC-A256-B19B25DB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416A-EC28-4259-BC15-B388FBB92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B59C-D06E-447B-9C6B-AF918ADDD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5B35-BECE-49BF-A756-1EED5E839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F97147-EF32-4F83-A45A-DFE27D29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7AAAB5-BCA9-4E6C-82F1-18591E0F5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EB1E37-6F18-424A-B34C-B94F3432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9CC-8EE4-4626-9FE7-7E5A2E60C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C676A6-D401-4EC0-A2F0-124C32FC6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4D4627-3ED1-4CAD-9825-E9081FE2C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E0321C-4EFD-4843-961C-D91C98A9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FE4DAC4-5973-489E-93E9-6CC0CB293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F82FD5-6257-44B1-8003-7ADA0504C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FB43B-69A4-4355-ACA9-A755232F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6A3FAD-C0C4-4247-BFDA-281849F02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08B420-05B8-4D39-A96F-6E2F14CA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2242B1-75DC-4931-A801-B4E96FEEE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0FCE1B7-4738-49CB-894B-42233D52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956C-D1A5-4674-972D-D40F7AEBC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566C449-B1AC-47E1-B37C-6AC95BE34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942467-3BFE-48E2-876A-E8C0F69C1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7A3B307-8D25-4725-B506-FD80CA214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C4EC0E-B1F2-4436-A510-82764D74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AEB73D2-5AEE-400C-BB1F-9DFB7898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37C83C-7942-4CED-BE59-A52C3E7C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765ABF0-55D1-40F1-951C-1E5D215C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9F535-C61F-41B9-AE85-486258D28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059DFC9-6449-4674-A207-6B9CF581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C77E42-20E6-4A7C-A4F9-A6759EB01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FAAA-CE7D-4810-8B18-A61D8500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CE98C2-1995-4978-AC38-B6DBC6B87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B3318C-ECC2-4812-9712-998B75B5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7E280B-A420-45AB-90DA-D4ACF8732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8DB2F1-62DC-45B9-96E2-3D27599B6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E87916-EE09-42EB-9A7C-0E5A75BA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C47CFB-DA0B-48FC-BB6A-1A6C8C15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01BBBD-6B5C-481A-9B5A-10351286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D73F23-E6FD-4B31-99DD-C763420DF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C557092-27A1-44CA-943C-28695E1A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84C7BE-9D07-4D7E-AE85-F8A9CB1F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10AE-D2BC-4202-9C99-AA1BB23D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ABF837-D194-49B8-9CBC-F0F694E4C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74C094-259C-4EE4-97DA-324267D27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8DEF1E-C230-4C18-801D-68ED9661B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FA9A50-FA7A-4D2D-92C9-581A008B1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108FA8-35A6-4DEE-9B76-C7BF6381A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30B445-9785-472A-8ADD-91729107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29F6487-5191-4BF4-86FB-D38B9572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C082387-41FA-4F2B-8D86-5DB76F75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932119D-8C32-44AB-9F77-EB7C0591D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C04BDDA-4927-4FF4-9FB7-307B9720D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9C2-0CD7-4B77-B418-2D66D81B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3498F6-70A5-42F0-9E7A-CC6D99A9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000470-76D1-4ED1-93DA-1E54C31C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A207953-E667-429A-89DC-6859C312F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2FE99C-BC96-4D6B-8E84-F0BCDC5D1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02C0CB0-C833-4A4A-BA09-B349D2688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8E3C7A7-E0D8-4E46-888C-C5574026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8858F1-5853-4B7C-8162-7D08AB06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0BE6A55-4BBE-4C44-A6C5-184EB6A3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3AFCEB-355B-420D-A421-31078676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87C07B1-BDCD-4D81-A575-7A09FA72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394-4680-4E2C-B8CE-5A26BEA7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79FB7D-1449-47DE-A03C-D627D9300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1F27774-E012-4613-A7F0-380C24C4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4BCC802-28AB-4563-BE3B-C2EFD28E4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5BAEE9-7238-4833-9456-B30A223A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981031-8846-4F04-90E3-BB300E03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0179DF2-0836-4E86-8BB3-697D45B1D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2FF30F-FE02-4594-B299-C32FE4945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9A4A8D-B4FB-4E6A-B1C1-2D9FAA801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5E4504-0214-402F-86D9-377C289C5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E0BD49-8141-4719-B0ED-2E71AFE2A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5819-E841-4B9B-BB7C-CC1BD94A35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223CE-25AE-45A4-8A5C-266ED1B6CC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B814-366C-43FB-BF50-F293AA7B74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AB50-97A5-4927-8007-91945695F7CC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C7A9-1F0B-4A4A-8D00-5BF507BBBB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4797-AC10-4018-90EA-2D2B1DD52E86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D0296-4F64-46F5-BD18-F633EED6113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94431"/>
                </a:solidFill>
                <a:latin typeface="Book Antiqua"/>
              </a:rPr>
              <a:t>Le pronom « en »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93560" y="5257440"/>
            <a:ext cx="71964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194431"/>
                </a:solidFill>
                <a:latin typeface="Book Antiqua"/>
              </a:rPr>
              <a:t>Révision: p60-61 dans le cahi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504720" y="1828800"/>
            <a:ext cx="7766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ous ne mettez pas de la mayonnaise sur vos sandwich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314280" y="1814400"/>
            <a:ext cx="85154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lle veut mettre du fromage sur son hamburge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299880" y="1882800"/>
            <a:ext cx="8844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artin et Daniel ne veulent pas mettre de l’ananas sur leurs coupes glacé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BIG RULE: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Always put “EN” before th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Book Antiqua"/>
              </a:rPr>
              <a:t>LAST VERB</a:t>
            </a: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 in the sentence!!!!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ircl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0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Verbes for Duotang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50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oi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drink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50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v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96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tt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7196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94431"/>
                </a:solidFill>
                <a:latin typeface="Book Antiqua"/>
              </a:rPr>
              <a:t>Quel est le sens en anglais de « en » 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Book Antiqua"/>
              </a:rPr>
              <a:t>« en » veut dire « ___________ » en anglai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Qu’est-ce que je fais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Les mêmes instructions que quand on a utilisé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le pronom « y »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Instead of getting rid of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À + PLACE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 in the sentence, we’ll be looking to get rid of the ______________________________________ in our sentence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 : 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before the _____________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: 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put « en » in front of your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last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before the _____________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: 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and put « en » in front of your verb. DON’T FORGET: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_________________________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mettre de la laitu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____________________________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s: 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_______________ and put « en » ______________________________________________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7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2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1693440"/>
            <a:ext cx="91440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mettre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Where does « en » go in our sentenc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goes _________________________________ in the sentenc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s: 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Get rid of your ___________________________and put « en » __________________________________________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ll dir="l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4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2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7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2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" dur="10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5" dur="1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How do I do this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90080" y="2019240"/>
            <a:ext cx="8953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oss out the DE + WORD in your sentenc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lace it with “en”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ut “en”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1 verb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twee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2 verb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MEMBE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There could be ONE verb or TWO verbs!!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f there are TWO verbs, ______________________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Char char="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vert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2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7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2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423720" y="1870200"/>
            <a:ext cx="82965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u mets du ketchup sur tes frit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split dir="out" orient="vert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5:50:51Z</dcterms:created>
  <dc:creator>Sarah</dc:creator>
  <dc:description/>
  <dc:language>en-US</dc:language>
  <cp:lastModifiedBy>Biega, Sarah</cp:lastModifiedBy>
  <cp:lastPrinted>2014-12-01T16:06:00Z</cp:lastPrinted>
  <dcterms:modified xsi:type="dcterms:W3CDTF">2014-12-01T16:06:04Z</dcterms:modified>
  <cp:revision>31</cp:revision>
  <dc:subject/>
  <dc:title>Le pronom « en »</dc:title>
</cp:coreProperties>
</file>